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B74E-B118-4927-BCEA-29B3F9D5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546-9A0D-4A93-9091-5D9B166A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B0E-E45F-493F-BB6A-FC2290D6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DA2-0035-4323-A7C2-7FCBB992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D60A-9ADC-455B-A545-8AC838E9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C2D7-40A6-45C8-B993-B1CEB08F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B699-5EE8-4D6B-80B5-A602EFCD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9772-57CF-49DA-BEC1-1163F34D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25F0-3A46-495E-9384-ED3A2FD1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44A0-AFFD-485F-92DC-F296E0BB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3920-5724-401B-ABDC-971AA765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FE7-959B-4C8B-9A33-87A44A4F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C88E-C753-4479-BBDC-78C89C53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531F-33F0-40EC-8D21-74F337F4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A6CB-3A10-4E58-821B-4A14B29B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1C34-CFCD-4A2B-A269-D485418F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6020-9002-4E84-8E3A-F3F3D174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E2B-C9C3-48C7-AFC7-321467FC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CDA9-0ED4-4D7A-9BB1-A7F5E148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584-D5D3-46F6-A278-E5BFE469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2555-D740-429F-A112-E51F6432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976F-DF6F-49FD-B5A3-217880AF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B53-AC2B-4B51-A1CE-7A5978F9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EAB-EADE-459D-B9A8-E00F895E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EE1B-9F6F-4415-AF50-1996132BAF0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2985-2716-4BC0-96E4-2405441858F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eattleaquarium.org/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lantagenet Cherokee"/>
              </a:rPr>
              <a:t>Seattle Aquarium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lantagenet Cherokee"/>
              </a:rPr>
              <a:t>Inspiring Conservation of our Marine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00400" y="0"/>
            <a:ext cx="5829480" cy="7543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0880" y="4114800"/>
            <a:ext cx="2667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lantagenet Cherokee"/>
              </a:rPr>
              <a:t>Allow your students to explore the marine life of the Puget Sound through a variety of exhib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181120"/>
            <a:ext cx="830592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lantagenet Cherokee"/>
              </a:rPr>
              <a:t>Several times each day, ask divers questions and hear their live answers from inside a 120,000 gallon tank containing over 800 species indigenous to the Puget S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143000" y="380880"/>
            <a:ext cx="6899400" cy="45957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876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lantagenet Cherokee"/>
              </a:rPr>
              <a:t>Get your hands wet by exploring the sea life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Plantagenet Cherokee"/>
              </a:rPr>
              <a:t>Puget Sound tide po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828800" y="228600"/>
            <a:ext cx="5410080" cy="437184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409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lantagenet Cherokee"/>
              </a:rPr>
              <a:t>Get close enough to observe the fluid movements of jellyfish and Giant Pacific Octo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5486400" cy="36543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660920" y="0"/>
            <a:ext cx="44830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952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lantagenet Cherokee"/>
              </a:rPr>
              <a:t>Observe and come face-to-face with marine mamm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600200" y="380880"/>
            <a:ext cx="593892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181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lantagenet Cherokee"/>
              </a:rPr>
              <a:t>Learn about endangered species and discover ways that we can hel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7696080" cy="4354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181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lantagenet Cherokee"/>
              </a:rPr>
              <a:t>Think like scientists as you examine marine life in new ways that fit with standard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29200" y="609480"/>
            <a:ext cx="393048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04920" y="380880"/>
            <a:ext cx="4379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ntagenet Cherokee"/>
              </a:rPr>
              <a:t>Make the Seattle Aquarium a part of your science curricul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657600" cy="43434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tagenet Cherokee"/>
              </a:rPr>
              <a:t>Special educational programs are included with admission ($8/$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tagenet Cherokee"/>
              </a:rPr>
              <a:t>Scholarships are avail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tagenet Cherokee"/>
              </a:rPr>
              <a:t>Several supplemental materials are provided for free for outside 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tagenet Cherokee"/>
              </a:rPr>
              <a:t>Teachers can explore free of charge during preview days and before field tri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lantagenet Cherokee"/>
              </a:rPr>
              <a:t>Find more information online at </a:t>
            </a:r>
            <a:r>
              <a:rPr b="0" lang="en-US" sz="2100" spc="-1" strike="noStrike" u="sng">
                <a:solidFill>
                  <a:srgbClr val="ffcc00"/>
                </a:solidFill>
                <a:uFillTx/>
                <a:latin typeface="Plantagenet Cherokee"/>
                <a:hlinkClick r:id="rId2"/>
              </a:rPr>
              <a:t>www.seattleaquarium.org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038480" y="1981080"/>
            <a:ext cx="4876920" cy="36576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06:52:25Z</dcterms:created>
  <dc:creator>Rachel Jones</dc:creator>
  <dc:description/>
  <dc:language>en-US</dc:language>
  <cp:lastModifiedBy>Rachel Jones</cp:lastModifiedBy>
  <dcterms:modified xsi:type="dcterms:W3CDTF">2012-03-06T08:02:15Z</dcterms:modified>
  <cp:revision>1</cp:revision>
  <dc:subject/>
  <dc:title>Seattle Aquarium</dc:title>
</cp:coreProperties>
</file>